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EF66-503E-494B-9F43-7BF12550E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5140-900F-4A83-A2BE-8673ABC43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78C2-E64D-4132-8B48-A4FD16D0E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F3A3-C79E-4158-9AA5-5974C2E060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BA92-1691-411F-9C8B-093375D28A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841A-A5DF-4390-882C-102EA8FC5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A919-49F5-40D5-9F30-2574ECCF4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F9C5-B427-4EF0-A475-B42D751DC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C44E-A89B-4D7D-A37F-2CE5B4914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8C13-C8FC-43E3-8506-A7EDD6875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366B-C570-447B-9B95-7976EBF0E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960E-8126-48A6-BED8-022507C0F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8-</a:t>
            </a:r>
            <a:fld id="{CE5DF43B-37A2-4FA8-9B77-3B34C4E03B23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We will move along the elements of A. For each new element we will compare the element with the current element of B. If they match, we will traverse A and B until we find a new element in A and a new element in B accordingly. If the elements are the same w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the previous step until the end of the lists. Else we report that the lists do not have the same set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above algorithm is O(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3DC3-0FDC-449C-917D-3D20DC4FCF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ine linearly all the elements a of A. For each element a, perform a binary search in the elements of B looking for an element b such that b=m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2(m,A,B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oreach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=binarysearch(m-a, 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f (found(b)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%d + %d = %d”, a,b,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element was not found in b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FC98-9D43-4CB2-B3CD-99B2A2EE817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DZ</cp:lastModifiedBy>
  <dcterms:modified xsi:type="dcterms:W3CDTF">2006-10-29T07:24:04Z</dcterms:modified>
  <cp:revision>347</cp:revision>
  <dc:subject/>
  <dc:title>l</dc:title>
</cp:coreProperties>
</file>